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453-2EE4-4CD9-92E7-C77EB0E3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894-FA0C-4C6C-94D7-6B807BDD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F01-64A3-4E3D-818D-4246A0D6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788-551A-4640-B1F5-998F1513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DB27-D3CB-4779-8128-DFC33AD9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05A1-C906-4182-8464-966B863B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D35E-1276-44A1-8309-5089BFC4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51C2-4079-413C-855B-4B124E85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6AE7-11E6-4C40-82F6-55670243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DB78-B78F-4EBB-AFF6-D7A0CDDB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DD61-2E1F-4C48-9474-3E10630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513-4069-4B82-9602-3AB82CEE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F15F-A039-464F-B660-65FA5901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EC25-C878-416D-B585-E6D58E75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F5FC-B85C-412C-97C5-A9624B0B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487E-75F4-4ADC-A07F-ABC0F4BF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CAA5-26FE-4FD6-BEC7-8D1506E7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51D-BF6D-4B37-93FC-8D128B45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50F-E3BB-47B5-BBC5-3189A56D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921-303E-4CEA-AF8B-CA1EB675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92C-8A45-4B64-8F0F-61F22735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1DD-FCC9-4DB1-9868-940DB1EB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B43-18DD-49E7-AF18-9E4CC3D0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692-8124-4CA5-91FC-0D3E2EA2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4852-7851-45BF-8E10-0499D28D74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3A86-8F6A-4839-A133-52A7EFEE05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6095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 mansi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. Es estupend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019920" cy="363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8120" y="609588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livia H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5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patio. Es grand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House Patio Designs"/>
          <p:cNvPicPr/>
          <p:nvPr/>
        </p:nvPicPr>
        <p:blipFill>
          <a:blip r:embed="rId1"/>
          <a:stretch/>
        </p:blipFill>
        <p:spPr>
          <a:xfrm>
            <a:off x="1676520" y="2209680"/>
            <a:ext cx="5562360" cy="4262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jardin. Es lujos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524560" cy="3983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Comedor. Es bonit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096240" cy="4057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a cocina. Es increible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 cuarto. Es  nuevo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sala. Es un bell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105520" cy="3421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bano. Es un modern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191120" cy="3302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8:28Z</dcterms:created>
  <dc:creator>hessoli</dc:creator>
  <dc:description/>
  <dc:language>en-US</dc:language>
  <cp:lastModifiedBy>hessoli</cp:lastModifiedBy>
  <dcterms:modified xsi:type="dcterms:W3CDTF">2011-10-26T13:48:42Z</dcterms:modified>
  <cp:revision>11</cp:revision>
  <dc:subject/>
  <dc:title>La casa  Olivia Hess</dc:title>
</cp:coreProperties>
</file>